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17B9-6F11-4CE5-95E3-D26045DBF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11EA-ACEA-4D1A-A424-0E7678472A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EC01C-EB65-4AAD-9F05-6EFB0373745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CAF6A-5989-4D96-9274-70476C884A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AF17-799F-4DFF-8EF2-820880F063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DD896-819C-4723-969C-0136988A1D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A82FE-AF9A-4B05-9FBE-D3718EE6D88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599BB-56DA-4CA5-BC40-4B9B0B78A66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A7731-1479-4C78-A397-249377CB870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9AB2-299F-481B-AC02-7046B00B0B1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41A0-8114-48C5-97D8-4677846C3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94F7-5077-4A9F-A009-91A67651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24ED-477C-4812-8C91-8208EECD0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9F365-9676-4537-A9FE-CE8D0B5503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BCA2B-A1BB-4B44-91C9-8F875547CF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4935-0753-42FC-B354-70086558B6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44D3-4F2F-4169-93D3-7DA210439F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BFDE-C669-42A3-94AE-A4E5D50C4B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76D6-1810-4E48-85E3-8D1667D78E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4E81-E386-4FEA-8FBC-93A9DF01CE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FEDD-0A0D-4DD4-ADCC-38BE34756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F4D4-1CC1-4248-AF33-D1B7ADBC8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5600-E778-4124-9FC2-F541E2B0B4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E7094-8551-4F0A-A8B1-93C1FAAA62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CF76-6AD9-4E12-B544-776E182B0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7498B-59AD-45E9-BC29-5A070D56EA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7653-DE79-40BA-AB5E-50DF7C0157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973-C674-4D12-80FF-724639BD9C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8A7-E41C-4895-A911-8251B2902F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DB3-9887-461B-B01D-BA7B507F4D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AA1-C8D4-4050-9EE7-919D016D5C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70F2-3D22-4CC5-90EF-F247FE5C6E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8C9-DD61-4BAF-B272-6F24EEE3BF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A71-E21B-4FC2-84D1-05B9CFD755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B565-078B-499D-86A9-5B8BC45DD4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720-CF4F-47DC-98B8-F89DB584FE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467-BC6D-471C-AA65-7AA9A75688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D7E-3BA0-464C-853C-80A6623A2D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C0B-1452-4D95-9A31-077AE8B0AFB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19430-6C29-47D8-A123-26233DA7E0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99687-104B-42DE-A029-581CEF1798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249D2-EAE0-429E-862C-05D0B28E6B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2023-F88B-4DF1-9302-A95327FBA4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321B-169E-46C4-AD3C-DA9C0F4D5E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C2AB7-F71B-400A-BFB6-F0EB548947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CD921-1917-4961-8F07-6E5BA66A29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70683-BFD0-4332-B875-D9A7FDE82C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C6A09-4DED-4A25-809E-5A2C0C99F0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6A6B5-3D2F-4CFB-AE4B-4DED00C557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07349-DB59-4113-A60F-F905395405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B3E04-712A-4DE1-9634-F419978B1D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FF6AB-73E4-427B-AB62-EAB5AA6419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A630B-1A92-4BDD-B72E-E8FFE3287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735F-5619-4B88-8D69-73348311D2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7E029-8A96-4505-8470-46C4F872BDD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59B65-6738-45FF-AFDD-92100233BC5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F805A-5BDE-4E4A-B21D-AA141ACC6B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02F0D-F3D9-4D75-B49C-AE498B6571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C7422-B81C-44DD-8FAA-A05C1D62C6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31320-7454-433F-9C12-26A57BC4F1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2D620-BA1E-4FF5-A14F-49EDADF2E6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51F32-36D4-478E-A86D-C49CCC31C4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7DD4-DA3C-47D0-96A3-9FB1EE94E0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EBA3F-A8C8-4C0C-93D8-02CCDA7B2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FB48-B4A5-408E-836E-FE1E72D8A6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C148E-5550-46FB-BABE-9215D163C44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6C68-B726-49A4-B3E0-48DEAE52BFB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CBFF-501C-4FC5-A38C-0DB79E03CB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B82F-97E6-4CED-9459-FC67965CFC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CAEE-C584-405C-A3A0-8B537FED97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1A48-17C0-4E25-A3C2-70970290FE4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EE2-2E7A-4D7B-B1D3-00C8988571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212F-C818-46B5-A72F-A262EA760C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A87A-A846-4B48-9426-F30BC532578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B0A7-F0CB-4EF2-BDBE-E963E7509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AD35-B14A-46C7-815D-62BAC0A8E41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B466-FBB7-4E1E-AC0F-E89D982BEE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F82-D2DF-4137-AC8F-9570E443397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4D5-E129-4030-9D8D-547782BB0E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735BE-ECC5-4C94-86E1-826BBCF043D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CBE3B-8111-4B52-87FE-8DE5936354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59A8D4-4DAB-4C67-AFBC-64B2408850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FA3919-9658-4F0F-A316-1291481977F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ED30BF-98DE-4261-8358-56528B38F7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FC394-5115-4B28-A45F-1BB9DB879CB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DF737-BA3C-4586-8C81-C410BDB8C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9EB7-287E-4526-8138-808BA9CC500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2A6267-1A32-4135-82D2-399A7BFD52D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BCA2A-B2E8-45BB-9391-B01CE8A86D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0F0A5F-03BF-4AA3-B903-9E47DA1814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CDACA-66CC-4F43-B664-7A8B6B826F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03FF6-786E-40C7-818B-F445207A383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D4C3B-53ED-465C-A187-5490C33169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C49F2-AEDD-4B51-8C21-41B04DEE2D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E2ABA-F65C-483D-8AC0-53E59B02074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87EB1-74CC-477A-8049-0723000B639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0FF45B-5BD4-460B-B0A1-E52A1A441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CC31-C77B-4FCD-988E-C728C2D2CDF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6868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8316B-69D2-42A4-A16C-E64B3FA8C0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BB6EAB-4A1E-452B-BD5C-590CB34C9CF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DF4A5-7FF4-4EC1-A67B-5AEBEF0686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A660E-1312-4592-8773-07D11872E9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04920" y="4324320"/>
            <a:ext cx="86868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11F91-DCFB-470A-867E-3BDC89974E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6320" y="155376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049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756320" y="4324320"/>
            <a:ext cx="423900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61CE1-9504-4143-9B74-A64B222FD79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4216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179040" y="155376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30492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4216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179040" y="4324320"/>
            <a:ext cx="2796840" cy="2529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72BA1-4226-4143-80E8-28B3992C82B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7101-DF8A-4444-8B50-802B7AEB8F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41B9-252A-4F02-8465-0317190460B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7CC5-3F68-4ED9-8273-627774039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3160" y="6473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C0CA-532F-4E14-ABCD-50662467ADC8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50D2-1ACE-4400-A4CE-25F9A4D9B351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06520" y="5340240"/>
            <a:ext cx="8643960" cy="23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8453160" y="6473520"/>
            <a:ext cx="30780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0EBC-13F2-4A28-9E74-D8AF3F295A2D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06520" y="3432240"/>
            <a:ext cx="8643960" cy="23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Lucida Gran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4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2A94-E005-4107-BC6F-88A84B0420EC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6520" y="60102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5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3BFB-FB8B-4B87-B1C2-09C6811BD34D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6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C209-B773-42F8-ACB9-DDC3814CCFAC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06520" y="5840280"/>
            <a:ext cx="8643960" cy="24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87DF-E12B-4797-B56B-2CAF5472B64C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8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19F8-D140-4DD6-9E8F-837A51E2DF29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1" marL="681120" indent="-28584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2" marL="10810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3" marL="1538280" indent="-228600"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4" marL="199548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5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lvl="6" marL="199548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04920" y="19836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Lucida Grande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Lucida Gran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9"/>
          </p:nvPr>
        </p:nvSpPr>
        <p:spPr>
          <a:xfrm>
            <a:off x="8454960" y="6476760"/>
            <a:ext cx="3081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B83-1078-4182-8E39-E55D164A357B}" type="slidenum">
              <a:rPr b="0" lang="en-US" sz="1200" spc="-1" strike="noStrike">
                <a:solidFill>
                  <a:srgbClr val="d38e2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3351240" y="509760"/>
            <a:ext cx="2744640" cy="609480"/>
            <a:chOff x="3351240" y="509760"/>
            <a:chExt cx="2744640" cy="609480"/>
          </a:xfrm>
        </p:grpSpPr>
        <p:sp>
          <p:nvSpPr>
            <p:cNvPr id="359" name=""/>
            <p:cNvSpPr/>
            <p:nvPr/>
          </p:nvSpPr>
          <p:spPr>
            <a:xfrm>
              <a:off x="3351240" y="1014480"/>
              <a:ext cx="685800" cy="104760"/>
            </a:xfrm>
            <a:prstGeom prst="pie">
              <a:avLst/>
            </a:prstGeom>
            <a:solidFill>
              <a:srgbClr val="c08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08640" y="1014480"/>
              <a:ext cx="687240" cy="104760"/>
            </a:xfrm>
            <a:prstGeom prst="pie">
              <a:avLst/>
            </a:prstGeom>
            <a:solidFill>
              <a:srgbClr val="c081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351240" y="509760"/>
              <a:ext cx="2744640" cy="609480"/>
            </a:xfrm>
            <a:prstGeom prst="pie">
              <a:avLst/>
            </a:prstGeom>
            <a:noFill/>
            <a:ln w="25560">
              <a:solidFill>
                <a:srgbClr val="b076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304920" y="583920"/>
            <a:ext cx="8686800" cy="6273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dcc"/>
                </a:solidFill>
                <a:latin typeface="Lucida Grande"/>
              </a:rPr>
              <a:t>Manor</a:t>
            </a: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Had less than 600 residents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They produced everything they needed: Food, Clothing, and Farming Tools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Peasants lived  a not-so-well put together cottage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</a:rPr>
              <a:t>The Manor House was were the lord and his family lived. 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Lucida Grande"/>
              </a:rPr>
              <a:t>A fun fact is that the kitchen was outside of the main building in case of a fire.</a:t>
            </a:r>
            <a:endParaRPr b="0" lang="en-US" sz="3200" spc="-1" strike="noStrike">
              <a:solidFill>
                <a:srgbClr val="4e3b30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04560" y="660240"/>
            <a:ext cx="4190760" cy="6159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Lucida Grande"/>
              </a:rPr>
              <a:t>Peasant Lives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Worked from sunup to sundown growing food and making other products for their families, lords, or to sell to towns.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Given land and a house in order to do work for the lord. 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Free peasants rented land from the lord and didn’t have to work for him.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267080" cy="41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39320" y="596880"/>
            <a:ext cx="8852040" cy="6299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cc"/>
                </a:solidFill>
                <a:latin typeface="Lucida Grande"/>
              </a:rPr>
              <a:t>Life on the Manor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Lucida Grande"/>
              </a:rPr>
              <a:t>You were either peasants, trades people, women/children, or a higher class official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Trades people would be millers, bakers, smiths, or carpenters to sell and trade their products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Lucida Grande"/>
              </a:rPr>
              <a:t>Women and Children would make clothes and meals or tend gardens and look after livestock</a:t>
            </a:r>
            <a:endParaRPr b="0" lang="en-US" sz="24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1181160" y="4152960"/>
            <a:ext cx="4473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506520" y="1036800"/>
            <a:ext cx="8643960" cy="298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506520" y="1047600"/>
            <a:ext cx="8643960" cy="25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0400" y="863640"/>
            <a:ext cx="889020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 algn="ctr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dcc"/>
                </a:solidFill>
                <a:latin typeface="Lucida Grande"/>
              </a:rPr>
              <a:t>Difficult Times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2712"/>
                </a:solidFill>
                <a:latin typeface="Lucida Grande"/>
              </a:rPr>
              <a:t>Famine, Diseases, and Peasant Rebellions happened on the Manor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Peasants would produce enough for their lords but sometimes not enough for everyone. If crops were damaged famine would be a result.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Diseases such as the Plague, or the Black Death, traveled on ship by rats. There was both the bubonic and pneumonic plague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68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Lucida Grande"/>
              </a:rPr>
              <a:t>Peasant Rebellions were common when there conditions of working got worse.</a:t>
            </a:r>
            <a:endParaRPr b="0" lang="en-US" sz="2200" spc="-1" strike="noStrike">
              <a:solidFill>
                <a:srgbClr val="4e3b30"/>
              </a:solidFill>
              <a:latin typeface="Lucida Grande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660240" y="4749840"/>
            <a:ext cx="42674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fulton</dc:creator>
  <dc:description/>
  <dc:language>en-US</dc:language>
  <cp:lastModifiedBy/>
  <cp:revision>0</cp:revision>
  <dc:subject/>
  <dc:title>Life On a Medieval Manor</dc:title>
</cp:coreProperties>
</file>